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33650"/>
        <c:axId val="15833110"/>
      </c:barChart>
      <c:catAx>
        <c:axId val="339336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33110"/>
        <c:crosses val="autoZero"/>
        <c:auto val="1"/>
        <c:lblAlgn val="ctr"/>
        <c:lblOffset val="100"/>
        <c:noMultiLvlLbl val="0"/>
      </c:catAx>
      <c:valAx>
        <c:axId val="158331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336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889-11A1-4766-9D78-554CF3B0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F63-A795-4C90-B3FA-F341A1E4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B603-F0C9-4177-9619-4EB1B0EA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9F48-523E-40C5-A2CE-71D6D253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1B83-7CE6-4EF6-92CF-A9ABDC3C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AEFC-0695-418A-944F-DE6FD024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7DC5-5421-4B26-83E0-811F9386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E211-7A6A-4CA3-BBFF-9185C363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59E-A2A8-463C-BDD4-B1B28552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D378-E54C-4549-BC8A-523F1F16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8CFA-BA9B-4A98-BB94-E6E3BBF2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069-8BCC-44FB-A11D-EFFF39FA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94CDB-C35A-4A66-8AE7-25A7382138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