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68107"/>
        <c:axId val="24812986"/>
      </c:barChart>
      <c:catAx>
        <c:axId val="80668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2986"/>
        <c:crosses val="autoZero"/>
        <c:auto val="1"/>
        <c:lblAlgn val="ctr"/>
        <c:lblOffset val="100"/>
        <c:noMultiLvlLbl val="0"/>
      </c:catAx>
      <c:valAx>
        <c:axId val="24812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8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110-B63A-49DB-A180-80C18A37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71-2B4E-4F4D-9359-21B9C0D7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4EB-2332-49F9-93DF-106A6F0A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45E-ED26-4FE0-8A53-37FAB5A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868-7539-4458-A7E0-797B49A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D92-3FF9-4BBC-9EA7-F109720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B9B-C353-4730-AFA8-B94ED3CF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CE2-AD91-4EE8-8E24-4019B4D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A5D-676D-41D1-9D8E-769F30F4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0FC-5E46-451A-BFEE-87A630B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97E-88EA-4AA1-8E15-9F1C62C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9B6-677B-4746-BC90-DCCD81D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7063D-7E0F-4150-884C-5ACE28524F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