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95612950"/>
        <c:axId val="81725932"/>
      </c:barChart>
      <c:catAx>
        <c:axId val="9561295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81725932"/>
        <c:crosses val="autoZero"/>
        <c:auto val="1"/>
        <c:lblAlgn val="ctr"/>
        <c:lblOffset val="100"/>
        <c:noMultiLvlLbl val="0"/>
      </c:catAx>
      <c:valAx>
        <c:axId val="81725932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9561295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AA28AC-869A-4C64-B541-3E1D9BA69B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1EBFB4-A181-4DBA-8466-994C694CB1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014BA0-A53A-43F8-A4B7-B82D29E7285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37F282-552C-4836-BE88-B90B24C7745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F45F8-C7FE-44E7-8E1B-E06A3E6EC9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2F4E2D-8E5D-4057-A795-E9481CC96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45FC3D-08EC-484F-ABC3-1EDC064182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DDF325-431C-437A-945A-E0EDBC7265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79AA02-7A6C-4689-9EEC-96EE568F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172043-EEC3-4FC1-B3FD-BAC13CC08B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F6FBFF-D28A-4AD0-B7EB-705393B5CD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7FFC07-F482-4894-8E1C-6944485044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62D1D7-B727-4770-AEFA-E44CF67F005D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