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41329"/>
        <c:axId val="80735383"/>
      </c:barChart>
      <c:catAx>
        <c:axId val="87041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35383"/>
        <c:crosses val="autoZero"/>
        <c:auto val="1"/>
        <c:lblAlgn val="ctr"/>
        <c:lblOffset val="100"/>
        <c:noMultiLvlLbl val="0"/>
      </c:catAx>
      <c:valAx>
        <c:axId val="80735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1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CE3-23B6-4461-BF1B-A84ABA10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E10-D371-4461-A102-BE781611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397-62B8-436E-AE87-955E8555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1F4-9A63-47A5-A981-C73D1388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845-BD1F-4742-858F-03A6045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990-5B4A-43D0-B356-4FF98047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EBD-1963-4794-8EE1-619B09E3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124-4536-4A92-884E-14A1FF8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9A2-7073-4DA7-9FD0-78DF0E00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3CB-A01C-4B3F-B233-C4D6D49C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9D0-FAF8-40B7-ABB7-CFC9FA0B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C12-C828-440A-9D33-3E9E9A8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80921-3AAA-476C-8EFA-1933D371FE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