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71057"/>
        <c:axId val="57145365"/>
      </c:barChart>
      <c:catAx>
        <c:axId val="791710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45365"/>
        <c:crosses val="autoZero"/>
        <c:auto val="1"/>
        <c:lblAlgn val="ctr"/>
        <c:lblOffset val="100"/>
        <c:noMultiLvlLbl val="0"/>
      </c:catAx>
      <c:valAx>
        <c:axId val="571453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710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A481-A836-46B3-9403-4389699E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DA94-36D4-457B-823D-EC9BBE4D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C5C-E483-4835-AC85-A34C023E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A856-2A34-4274-8E9A-70B17EEF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608-02A0-44E0-B0B2-8DA68084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B41-4068-49A3-8316-85A64853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80D-C1A9-41D9-8095-DF4512B8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4A2-6E22-4354-9184-52B62E94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2B4-D3CD-4316-99F4-A1630F67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2F8-95E0-4A79-B04F-9584F398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3ABA-F6CB-4349-8C9C-00FBA9DF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382E-4B7B-46BC-94FA-04CCEC66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0085A-3C3C-4CA0-9F32-0F1C72A183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