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69434"/>
        <c:axId val="84031633"/>
      </c:barChart>
      <c:catAx>
        <c:axId val="865694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31633"/>
        <c:crosses val="autoZero"/>
        <c:auto val="1"/>
        <c:lblAlgn val="ctr"/>
        <c:lblOffset val="100"/>
        <c:noMultiLvlLbl val="0"/>
      </c:catAx>
      <c:valAx>
        <c:axId val="84031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694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CC3-42B6-4183-A9B8-0ADC1871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FAC-4F1A-4458-9F5E-25EF721E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5BEB-BB3D-45AC-AA6C-BF3146A7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3FE7-6EA9-4706-B0C4-B47BA58B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B68-894F-423E-9880-0E0C7ED8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C4E3-C486-4BBD-9142-AD773A06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A611-6D9D-4C08-87F5-2AA8CB70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CED3-3C50-40C3-AEE6-D52EF0B9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464-0B4D-4A23-AC06-F77E9427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7BE-EF19-4BCC-A315-CE4659D8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F48-E4A9-419F-A49C-FC05AB17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145-B3CB-422E-9D3E-47BB9E7E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FD498-EBA5-4329-AEC6-A228B3C26C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