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28988"/>
        <c:axId val="60251547"/>
      </c:barChart>
      <c:catAx>
        <c:axId val="80228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51547"/>
        <c:crosses val="autoZero"/>
        <c:auto val="1"/>
        <c:lblAlgn val="ctr"/>
        <c:lblOffset val="100"/>
        <c:noMultiLvlLbl val="0"/>
      </c:catAx>
      <c:valAx>
        <c:axId val="60251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28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F05-1C6D-48D5-993B-5BEE3EB8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273-C185-467A-9387-764EDE5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463-D0DE-4C69-8A3C-F88DA3BB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784-BECA-41F1-A1EC-616831D1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1ED-6CED-4A57-9613-B9B7C928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501-5A86-4D0B-A762-55EEDCDB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8C7-DD88-42F4-B1BF-62AD5E4B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2DF-5823-4156-AEEE-E7E1937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088-9059-4962-AC73-F9C3CDA1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0A6-42AC-4C99-9EDB-7703832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978-0E65-4DB3-8691-21576C3F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CA2-24AF-483E-AC96-9DD40A71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C7770-7DF5-4190-948D-201E2AC26F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