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14690"/>
        <c:axId val="51915749"/>
      </c:barChart>
      <c:catAx>
        <c:axId val="22714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5749"/>
        <c:crosses val="autoZero"/>
        <c:auto val="1"/>
        <c:lblAlgn val="ctr"/>
        <c:lblOffset val="100"/>
        <c:noMultiLvlLbl val="0"/>
      </c:catAx>
      <c:valAx>
        <c:axId val="51915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4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D22-0086-4C05-89FB-75EFF47E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E13-7D9C-4B5C-B3AB-C127C212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EF1-52D5-4950-B3F6-449424B4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FBC-9BA6-47B0-90D7-6B1BE720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2E4-E781-4DA5-92CE-D68F1240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050-9B94-4B7E-9124-828D2B90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777-B668-40BB-9A98-076CA8E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619-987D-441C-8972-AF33A008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70A-840E-45CC-8278-D76E453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E37-5F08-4712-A631-E4C37D7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765-6441-48EA-9BDF-BDB26D36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BE7-C9BF-4DAC-BF5F-0048BAC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8C2C1-2A07-4E61-AA1A-0393972CC0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